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1E3-B1C5-415D-8717-304B34F0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83A-3C9C-4C2C-BAE1-DFB1DDB2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347E-8200-408A-A160-441BA424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034-5210-49EB-9440-23A2BAB9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FFE-A9CB-4521-A712-F9B5CF52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227-C3B3-426A-BF28-241FF521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A78-A3F6-4CA3-9ECB-FFB39216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E60-BA3A-4CA4-86C1-4010A5D0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B3C-9431-456D-B738-576F653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149A-5F3F-40EA-A4AA-D091440C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2193-14CD-453B-9644-4A9D782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330-E6BF-4F38-BE3D-1B364682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D83-9FE6-4E1B-820F-20B64E86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0DF-41E5-4706-BC6C-6617D17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AD-09B1-4D23-B549-E587861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5436-ED96-40F0-AA51-AA27A16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FBE5-857A-4EAA-8263-6F131A1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0DA-B09B-47AD-A207-F137B65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A014-72B7-4051-8EC9-2AFDD292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CE1C-57C1-49A3-9183-C62B45D9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E034-7543-4F53-9195-28D7C63F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41A3-0641-4BDD-8357-730F86A2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9A76-AD21-48A5-8B98-4BB1B89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59CB-A129-4E5F-ACFA-AFDE2D6D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68E6-09BC-4ACF-8FA9-576D880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0CF-491A-42DD-97DD-0D24360D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034B-21FE-45A5-A7C6-580EA43F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D17E-A866-4C8C-A466-21D6160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9AC7-330A-49DD-93CE-D0881F5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D5B5-5D0C-4E15-9202-281E69E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4621-00BD-4AED-ADFE-F8ACE4D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6869-A1A1-464C-8BC4-4E318C40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BD95-D537-4B73-8944-8E1EF689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F649-5998-4954-85F9-657C5016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E5E6-13F4-4763-8E4A-10DE4D3D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21E9-A17D-4073-B24A-00210A26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94B-E60A-475E-957F-27C6A8AE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DE5A-44A4-4396-ADF9-39EF0B0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1049-E6CB-4117-94C4-6051D31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E7BC-AB56-4230-B3DC-6705A07F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F98A-5D24-4DCE-B98C-DD92B20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D864-7FA1-427E-B6DC-41E68EE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C4B2-2DF3-4940-AA52-5E3CE25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76C5-89C4-40E1-B6E4-42959215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21C8-C759-4DA7-8445-2664D7E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02CA-BB57-4E9D-B076-A1AC3A51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2D7F-4A7E-40B5-AB26-E33F9D29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F4B-EC19-4770-9672-671BF43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B46D-A7D2-4197-80E0-2D14BE1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2E0E-37D8-4A7E-BA10-87536C5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432D-62EF-4A2D-B890-BB07B70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EAAD-327A-4808-8127-427BCC1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4736-2DCC-4D98-B2E6-71EFF90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01A3-6352-4F81-BFC7-6C406E2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9B20-6B3B-4A98-8CB4-682724D2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88F0-E05B-4871-9406-5DABD0D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DE4E-80C1-4C07-AEBA-2232F833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C059-433E-43BF-AE1F-8149323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029-4BA4-46EF-93E4-A9B3A618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30FB-7289-48BE-B892-6C48A6C4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F19-B7D6-4F11-996A-60198A1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ABE-3C81-4B1E-8912-7B6FF29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088-F3BC-4BF1-8BCB-39DB4A2F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BDBE-0C87-4AA0-9763-FE580EA5392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9C2-CC88-4DAF-9D62-8AAFE2A7F5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939-8037-4651-A902-C668C898FF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21B-3497-4145-BEE9-490EEAE556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D14-178A-4EB8-8243-6B9109E3F6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357200" y="2000160"/>
            <a:ext cx="592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1715"/>
                </a:solidFill>
                <a:latin typeface="Times New Roman"/>
              </a:rPr>
              <a:t>EXCURSIE 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Monotype Corsiva"/>
              </a:rPr>
              <a:t>Observatii asupra ecosistemului Padurii Ciornuleas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i="1" lang="ro-RO" sz="2400" spc="-1" strike="noStrike">
                <a:solidFill>
                  <a:srgbClr val="000000"/>
                </a:solidFill>
                <a:latin typeface="Monotype Corsiv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Monotype Corsiva"/>
              </a:rPr>
              <a:t>noiembrie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IMG_0134.JPG"/>
          <p:cNvPicPr/>
          <p:nvPr/>
        </p:nvPicPr>
        <p:blipFill>
          <a:blip r:embed="rId1"/>
          <a:stretch/>
        </p:blipFill>
        <p:spPr>
          <a:xfrm>
            <a:off x="2771640" y="1844640"/>
            <a:ext cx="4573800" cy="34308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889200" y="785880"/>
            <a:ext cx="59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vatarea unei orientari corecte in pad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rmarind muschii copac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PowerPoint3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42960" y="1643040"/>
            <a:ext cx="7929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EVALUA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310400" y="2500200"/>
            <a:ext cx="7283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xarea cunostintelor prin completarea fisei de luc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edback realizat prin inter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tograf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lectarea de materiale (frunze, licheni, ghinde etc) neces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losirii lor in cadrul orelor de biologie, educatie p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naliza temperaturii aerului, solului, pe baza valorilor obt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PowerPoint3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642960" y="1643040"/>
            <a:ext cx="7929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CONCLUZI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42960" y="1643040"/>
            <a:ext cx="7929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742217"/>
                </a:solidFill>
                <a:latin typeface="Monotype Corsiva"/>
              </a:rPr>
              <a:t>  </a:t>
            </a:r>
            <a:r>
              <a:rPr b="1" lang="ro-RO" sz="2000" spc="-1" strike="noStrike">
                <a:solidFill>
                  <a:srgbClr val="742217"/>
                </a:solidFill>
                <a:latin typeface="Times New Roman"/>
                <a:ea typeface="Times New Roman"/>
              </a:rPr>
              <a:t>Varietatea plantelor si a arborilor, frumusetea peisajului, cantecele pasarilor i-au facut pe copii sa realizeze minunile vietii si puterea naturii. Momentele  placute traite in padure i-au impulsionat sa revina si primavara pentru a planta puie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4221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Perpetua"/>
              </a:rPr>
              <a:t>......</a:t>
            </a:r>
            <a:r>
              <a:rPr b="1" i="1" lang="ro-RO" sz="2600" spc="-1" strike="noStrike">
                <a:solidFill>
                  <a:srgbClr val="000000"/>
                </a:solidFill>
                <a:latin typeface="Perpetua"/>
              </a:rPr>
              <a:t>Calde multumiri domnului ing. silvic Gabriel Ionescu, pentru ajutorul acordat in realizarea acestei aplicatii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IMG_0147.JPG"/>
          <p:cNvPicPr/>
          <p:nvPr/>
        </p:nvPicPr>
        <p:blipFill>
          <a:blip r:embed="rId1"/>
          <a:stretch/>
        </p:blipFill>
        <p:spPr>
          <a:xfrm>
            <a:off x="539640" y="981000"/>
            <a:ext cx="6851880" cy="51386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6215040" y="642960"/>
            <a:ext cx="242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 particip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Cadre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didactice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insotitoare: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855d5d"/>
                </a:solidFill>
                <a:latin typeface="Perpetu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Dir. Adj. Prof. Geta Tudor</a:t>
            </a: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Elena Joi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Iulia Kurt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 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Prof. Cristinel And</a:t>
            </a: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o</a:t>
            </a:r>
            <a:r>
              <a:rPr b="1" i="1" lang="en-US" sz="2600" spc="-1" strike="noStrike">
                <a:solidFill>
                  <a:srgbClr val="742217"/>
                </a:solidFill>
                <a:latin typeface="Monotype Corsiva"/>
              </a:rPr>
              <a:t>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Mihaela Mladenovic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Sibel Hirsa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Prof. Oroles Floresc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742217"/>
                </a:solidFill>
                <a:latin typeface="Monotype Corsiva"/>
              </a:rPr>
              <a:t>Inv. Emilia Constant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Franklin Gothic Book"/>
              </a:rPr>
              <a:t>Scopul excursie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bilizarea dascălilor să desfăşoare lecţii în pădu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ştientizarea elevilor despre îndatoririle pe care le au faţă de natură şi societate, în contextul dezvoltării durabi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Franklin Gothic Book"/>
              </a:rPr>
              <a:t>Obiectiv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52240b"/>
                </a:solidFill>
                <a:latin typeface="Perpetua"/>
              </a:rPr>
              <a:t>Înţelegerea de către elevi a valorii pădurii pentru fiecare dintre ei, din punct de vedere al educaţiei ecologice, din punct de vedere economic, recreativ şi afectiv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52240b"/>
                </a:solidFill>
                <a:latin typeface="Perpetua"/>
              </a:rPr>
              <a:t>R</a:t>
            </a:r>
            <a:r>
              <a:rPr b="0" lang="pt-PT" sz="2600" spc="-1" strike="noStrike">
                <a:solidFill>
                  <a:srgbClr val="52240b"/>
                </a:solidFill>
                <a:latin typeface="Perpetua"/>
              </a:rPr>
              <a:t>esponsabilizarea copiilor şi cultivarea unei conştiinţe ecologice atât de necesară astăzi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IMG_0110.JPG"/>
          <p:cNvPicPr/>
          <p:nvPr/>
        </p:nvPicPr>
        <p:blipFill>
          <a:blip r:embed="rId1"/>
          <a:stretch/>
        </p:blipFill>
        <p:spPr>
          <a:xfrm>
            <a:off x="1258920" y="907920"/>
            <a:ext cx="6856560" cy="51418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601920" y="42876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elegerea conceptului de eco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IMG_0105.JPG"/>
          <p:cNvPicPr/>
          <p:nvPr/>
        </p:nvPicPr>
        <p:blipFill>
          <a:blip r:embed="rId1"/>
          <a:stretch/>
        </p:blipFill>
        <p:spPr>
          <a:xfrm>
            <a:off x="1403280" y="1125360"/>
            <a:ext cx="6856560" cy="5142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1692360" y="404640"/>
            <a:ext cx="56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cunoasterea speciilor de insecte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IMG_0123.JPG"/>
          <p:cNvPicPr/>
          <p:nvPr/>
        </p:nvPicPr>
        <p:blipFill>
          <a:blip r:embed="rId1"/>
          <a:stretch/>
        </p:blipFill>
        <p:spPr>
          <a:xfrm>
            <a:off x="3059280" y="1916280"/>
            <a:ext cx="4033800" cy="3501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1071720" y="5716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ervarea cuibur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pasari si intelegerea rolului ace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IMG_0141.JPG"/>
          <p:cNvPicPr/>
          <p:nvPr/>
        </p:nvPicPr>
        <p:blipFill>
          <a:blip r:embed="rId1"/>
          <a:stretch/>
        </p:blipFill>
        <p:spPr>
          <a:xfrm>
            <a:off x="3564000" y="1700280"/>
            <a:ext cx="4573440" cy="34304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55640" y="4762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ntionarea modului de hran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 animalelor, in timpul ier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4:36:01Z</dcterms:created>
  <dc:creator>Bogdan Joita</dc:creator>
  <dc:description/>
  <dc:language>en-US</dc:language>
  <cp:lastModifiedBy>danut</cp:lastModifiedBy>
  <dcterms:modified xsi:type="dcterms:W3CDTF">2009-11-25T04:28:55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795041033</vt:lpwstr>
  </property>
</Properties>
</file>